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B93-F4C4-429D-AEE1-7C969838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D8E-F453-418F-8555-6913ABEF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15E-57B7-402C-A1C3-805D2FDB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13C-65DD-4159-ADF0-00C7885E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8406-2C84-45B6-ADE8-68A6D614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ED2E-A0C3-4B41-981A-3DCB660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01CA-EC4A-41ED-A18A-5950E670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2F9E-B981-4E73-A1F0-678F6516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765-E26B-42AD-895D-7B55FABB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58E0-9935-42D5-B218-2131CFA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891D-F953-4CA7-8987-544ED402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38C-E8F9-4E4B-9908-3C9E7783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5E90-FCD4-45B9-B1BF-E966F40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40F5-1F77-4D3E-83E8-3B61FC7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71F-1269-4BF1-8804-7E0B9872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A28F-CBAC-44BE-81DC-385511D2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F860-5001-4D52-A568-81C329A3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B82-C3C0-4B56-B247-8D1FA55A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77F-1342-4308-8999-870ABA3C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9DA-4EDB-4601-B38C-E0AA4516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A5E-EFAC-405E-AD9C-21BB965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D8B-4147-41E8-B8DF-CBE7E20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2EC-7F50-4178-A36E-82D811E9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237-5118-442E-86A8-3D65B28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A95-9CF6-4702-9F76-85FD950CF3D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2FB2-DC8A-43D0-88CB-5F4B204FEAA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HANCING PERSONAL EFFECTIVE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now the real yo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 to love yourself in a true w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ve trust in your abilit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ke charge of your life in a proactive w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PERFORM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P 4 -MENTAL REHARS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P 5 – BE ACTION ORIEN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P 6 GOOD HUMOUR AN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OOD HUMAN REL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PERFORM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EP 7 - PRACTISE INNER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M AND PEA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EP 8 – EFFECTIVE SELF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CIPLI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EP 9- PERSEVEARENC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EP 10 – HEALTHY ATTITUDE AN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TINIOUS EDUC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HANCING PERSONAL QUALIT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termine the personal and professional goa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ke action to transform your goal into rea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intain self discipline and persever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HANCING PERSONAL EFFECTIVE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mprove communication skil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age Time successful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ke a positive first impress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teract with subordinates very affectionate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efine and expand your responsibilit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HANCING PERSONAL WFFECTIVE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form your duties as you would play a musical instru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 very decisive – Some decisions do go wrong but you would do well if you are right 8 out of 10 tim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hancing Personal Effective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eat people with respect – specially the ones who are weak and mu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ke sure you are in good Compan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ue freedom comes only through educ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hancing Personal Effective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sitive thoughts produce thought energy – Thought energy produces Dynamism – Dynamism causes major development in l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cepting mediocrity is the biggest injustice to yoursel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hancing Personal Effective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centrate on whatever you do – Lack of concentration makes you emotionally vulnerable- Emotional vulnerability makes you reactive and defensive. The best of you is overshadow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hancing Personal Effective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-run your day in your mind . Calmly watch your own actions as your own life coach. Understand where you made your mistakes and what you did right .Make a resolve to make your day better everyd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EPS TO ACHIEVE PEAK PERFORM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P 1 – BUILD HIGH SELF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TE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P 2 – HAVE A CLEAR MIS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P 3 - DEVELOP  A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STRATEGIC PL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ight</cp:lastModifiedBy>
  <dcterms:modified xsi:type="dcterms:W3CDTF">2013-08-23T08:20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